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7.gif" ContentType="image/gif"/>
  <Override PartName="/ppt/media/image3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23.gif" ContentType="image/gif"/>
  <Override PartName="/ppt/media/image16.gif" ContentType="image/gif"/>
  <Override PartName="/ppt/media/image1.wmf" ContentType="image/x-wmf"/>
  <Override PartName="/ppt/media/image14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5115-E30B-40C3-A4A8-CE29CA4A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– The key to a community of learners. The key to Making It Happen.   Real talk equals real results.  Good for students, good for adults.   Classroom and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 communication- focus on positive not just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dea- create monthly/weekly n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invitations to schoo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school 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mail checked da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email da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 narrowly focused, high leverage areas, 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 use of both summative and formative measures, qualitative and quantitativ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- a manageable stretch from present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s to inspire rather than dis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- goals describe the outcome or the result of th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 sets a timeframe for accomp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3BDB-F61A-4F8C-9855-24E191C2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E5ABB-F87E-4564-8B58-8FA5F00D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485E-495E-4495-A191-2D6D6258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2E2E-D95C-4136-9A5C-502D4C94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9649-CAA9-4DC0-8B3D-F4C4A526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211-FFAA-40FA-919C-5B4D9615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EC09-8BF5-4A9B-B4B9-10B6C32A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CB94-E68D-4D78-9A89-059A4D8D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143D-B822-468A-B9C4-CBAB684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8C04-B281-462D-B774-0A9185FE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2AE5-FE33-4D97-AF54-DB93714F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3B5C3-4FBD-46AC-8C25-39BC798C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8884-62FF-481E-98C8-6BEBF10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557F-140D-4CD0-A097-3AAB0C1C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E61A-FA18-4099-B2F4-4593EFE0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204-5A4E-4CFF-B865-CB3D6AE3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A93-2A81-4D24-BE72-BEAAC97F7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E7BF8-6F71-40C0-AE2D-8D8D3CC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C41E-25C0-4A09-BB2A-AE68226C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005E-A075-4AAA-AD57-542A85FE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07B5B-D627-4910-8B7A-C94CF2E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4A80-8ACE-4B77-A89A-D4AC708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062F-BE01-40F1-AED4-4DDFD60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49E94-0638-4583-BDC2-81BD28B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8DE4-0F4D-45A5-9046-F7A0475852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8371-5F95-4C20-800B-91A3006BA4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133720" y="457200"/>
            <a:ext cx="4419360" cy="434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Jester"/>
              </a:rPr>
              <a:t>James A. Farley Middle School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Jester"/>
              <a:ea typeface="Jester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819520" y="1143000"/>
          <a:ext cx="30258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43000"/>
                    <a:ext cx="30258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8006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9900"/>
                </a:solidFill>
                <a:latin typeface="Tempus Sans ITC"/>
              </a:rPr>
              <a:t>Welcome Back</a:t>
            </a:r>
            <a:br>
              <a:rPr sz="3400"/>
            </a:br>
            <a:r>
              <a:rPr b="0" lang="en-US" sz="3400" spc="-1" strike="noStrike">
                <a:solidFill>
                  <a:srgbClr val="009900"/>
                </a:solidFill>
                <a:latin typeface="Tempus Sans ITC"/>
              </a:rPr>
              <a:t>2009-2010 Another Outstanding Year!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udgetary Nee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me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ug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8098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pecial Education Meeting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chedu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ive 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gal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D Teachers paper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4120" y="2801880"/>
            <a:ext cx="320040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r. Reiner AKA Cowboy Dav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298116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BIS Team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d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 our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&amp;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81480" y="2379600"/>
            <a:ext cx="39625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t’s Take a Break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46240"/>
            <a:ext cx="35816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udent Recogni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IS Ti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News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ght Doing G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ntastic Frid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 Se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of the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d of the Mon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1320" y="2701800"/>
            <a:ext cx="205740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scipline Proced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ral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ssal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nded Students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de of Cond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51400" y="2438280"/>
            <a:ext cx="225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S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ing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81480" y="2473200"/>
            <a:ext cx="358164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62940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9900"/>
                </a:solidFill>
                <a:latin typeface="Tempus Sans ITC"/>
              </a:rPr>
              <a:t>Connect with Parents</a:t>
            </a:r>
            <a:endParaRPr b="0" lang="en-US" sz="5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8000"/>
                </a:solidFill>
                <a:uFillTx/>
                <a:latin typeface="Tempus Sans ITC"/>
              </a:rPr>
              <a:t>#1 Goal of the NRCSD Board of Edu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Use clear, consistent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Utilize voicemail, district/school websites, and student agend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mpus Sans ITC"/>
              </a:rPr>
              <a:t>Promote school ev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382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When to Contact Par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in the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good n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tudent is n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ing behavioral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ho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tudent is in danger of fai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 student has a significant drop in their grades (10 or more poi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 student is failing tests/quizz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900"/>
                </a:solidFill>
                <a:latin typeface="Tempus Sans ITC"/>
              </a:rPr>
              <a:t>Successful Education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t’s the people not the programs that create a successful school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4773600"/>
            <a:ext cx="8381880" cy="13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eet the Teacher (Parent) Nigh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First Im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tember 21 and 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2174760"/>
            <a:ext cx="35053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omebas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es an effective homebase look li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 walking the hall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tice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Field Tr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ission Sl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per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fying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er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Tr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24280" y="22734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ate Exa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n 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cess Clu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work Clu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618160" y="2438280"/>
            <a:ext cx="2187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PPR Procedu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edule Appoint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Th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 to Student Achie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RT Goals- Handou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MART GOA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empus Sans ITC"/>
              </a:rPr>
              <a:t>There is absolutely no research correlation between success and family background, race, national origin, financial status, or even educational accomplishments.  There is but one correlation with success, and that is </a:t>
            </a:r>
            <a:r>
              <a:rPr b="1" lang="en-US" sz="4100" spc="-1" strike="noStrike">
                <a:solidFill>
                  <a:srgbClr val="ff0000"/>
                </a:solidFill>
                <a:latin typeface="Tempus Sans ITC"/>
              </a:rPr>
              <a:t>ATTITUDE</a:t>
            </a: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-Harry W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Using Goals for Resul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pecific and Strategi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Measur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Attainab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Results-Orient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Time bou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632448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nzemius, A. &amp; O’Neill, J. (2001)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Building shared responsibility for student learn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 Alexandra, VA: ASC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est Scor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181480" y="2379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udent Behavio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78280" y="1676520"/>
            <a:ext cx="3438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rental Suppor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ain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05320" y="2198520"/>
            <a:ext cx="272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elcome to F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bbie Brenn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ggie MacD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ura Swee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t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ibel Cespe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 Willi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9900"/>
                </a:solidFill>
                <a:latin typeface="Tempus Sans ITC"/>
              </a:rPr>
              <a:t>Communication</a:t>
            </a:r>
            <a:endParaRPr b="0" lang="en-US" sz="4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90920" y="1884240"/>
            <a:ext cx="3962160" cy="3962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uilding Relationsh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handle confli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ling buck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181480" y="2021040"/>
            <a:ext cx="365760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taff Develop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up at Goog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2009-2010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ype of year do you  want it to b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81640" y="1981080"/>
            <a:ext cx="2854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tems from the Facult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114800" y="2743200"/>
            <a:ext cx="1801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tems from NRT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2697120"/>
            <a:ext cx="221004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onthly Calenda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boo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ail events you would like includ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assroom Vis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kn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52880" y="2733840"/>
            <a:ext cx="3429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Quality of Life Issu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ectroni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havioral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sent No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sses-Lunch Time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eanl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llw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and M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ect for 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lly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486400" y="2822400"/>
            <a:ext cx="24382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rade Level Assembl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 5 period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 6 period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de 7 period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ll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rofessional Expectatio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er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des- 50, 61-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ving the Buil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Ph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ing Procedures-Consist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29080" y="2209680"/>
            <a:ext cx="28465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assroo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e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4120" y="2543040"/>
            <a:ext cx="274320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0:05:52Z</dcterms:created>
  <dc:creator>Administrator</dc:creator>
  <dc:description/>
  <dc:language>en-US</dc:language>
  <cp:lastModifiedBy>lmadmin</cp:lastModifiedBy>
  <dcterms:modified xsi:type="dcterms:W3CDTF">2009-09-04T01:38:50Z</dcterms:modified>
  <cp:revision>6</cp:revision>
  <dc:subject/>
  <dc:title>Welcome Back 2008-2009 Another Outstanding Year!</dc:title>
</cp:coreProperties>
</file>